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193-1339-4D1C-A72D-BDC9F8BA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420-5470-49C3-BDC8-3E24216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C74-2770-4B95-BFF3-0E165F45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A74-9FCE-4CB6-892F-D876F7CC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D378-F66E-4760-AF8C-44612B15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909B-3794-4B91-AD57-1B7B740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F116-1988-4B54-A9BC-5BB5D57E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2C24-6EFA-48E6-9FF5-CB9B72E2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4720-E323-4398-8015-1B6ED528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3963-7B4E-48A5-A481-05D98C82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C76E-038B-46A0-86D4-2444B53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DCB-28FC-4694-9ABA-0102B7F8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F18-3608-42C6-A0A6-368024B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840-CE94-43A8-A0E1-FFBB4E4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A1AA-AD10-40D6-B3CD-ED3AD59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A54-29C2-49ED-B936-2FA1B16E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C69A-EB52-4E3D-85F6-5FD23645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3BF-6724-48F0-BB7C-9EA878A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AD6-31DE-408B-A288-9FFA4937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77B-8071-47A0-86A9-617C262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BB1-7D67-462A-AC66-ECA6954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BAC-29B0-41AF-ADE4-8F8C40C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18A-DB25-4AD6-93E4-2390F2E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F37-3DA3-4DD1-A047-E45DA6B8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6C0B-0FE0-4A74-8026-1B17DF1D3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53BB-0BDB-487E-A253-01AF12038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Embedded%20Sound%202" TargetMode="External"/><Relationship Id="rId3" Type="http://schemas.microsoft.com/office/2007/relationships/media" Target="file:///tmp/home/.config/libreoffice/4/user/gallery/Embedded%20Sound%202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video" Target="file:///tmp/home/.config/libreoffice/4/user/gallery/Embedded%20Sound%201" TargetMode="External"/><Relationship Id="rId5" Type="http://schemas.microsoft.com/office/2007/relationships/media" Target="file:///tmp/home/.config/libreoffice/4/user/gallery/Embedded%20Sound%201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2666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to treat somebody in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67160" y="26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4200" y="28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4720" y="460224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Jessica Zappit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62320" y="48769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causes shock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477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aused by the aftermath of severe bleeding, heart attack, electricity, or poiso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 is a severe condition in which the circulatory system fails to deliver blood to all parts of the bod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38480" y="5029200"/>
            <a:ext cx="119376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to spot signs of shock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son may be restless, have irritability, rapid, shallow, or uneven breathing; pale, cool, and moist skin; and rapid or weak pulse or no pulse at al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1752840" cy="1341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you do next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the person with a blanket or coat to maintain the person’s bod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help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778040" cy="120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66880" y="5105520"/>
            <a:ext cx="1930680" cy="947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905120" y="5029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61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1219320"/>
            <a:ext cx="64008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ow you know what to do if somebody’s in shock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5:22Z</dcterms:created>
  <dc:creator>Kraybill</dc:creator>
  <dc:description/>
  <dc:language>en-US</dc:language>
  <cp:lastModifiedBy>Kraybill Campus LMS</cp:lastModifiedBy>
  <dcterms:modified xsi:type="dcterms:W3CDTF">2011-05-24T13:05:37Z</dcterms:modified>
  <cp:revision>19</cp:revision>
  <dc:subject/>
  <dc:title>How to help somebody in shock</dc:title>
</cp:coreProperties>
</file>